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BF62-477F-4430-9FC5-931D9EC9F920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8DDF-077F-45C4-BE3B-D3149BC7A64E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1489-7FF1-4890-93F7-A5B98C9CA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2B73-9B5B-4933-8AD5-A01EE3743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4292-1C66-45A3-9864-5859439D2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BB6A-E2C0-4482-AFB9-DD0F0DCD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3CB8-670D-4AFC-859E-43796725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887A-4849-45E2-BF7B-AED442B7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D4AE-92F8-4D20-A12B-73D554E7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305-D37D-4D71-912B-A6607CD6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F5F3-ED7C-4C90-81BE-7C1C622E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930E-3680-474D-8618-6782202B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A0A-42B8-4EE2-838C-B7BD9E540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1ACC-8301-41CA-84E5-3FD977E0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C752-2878-4FFD-9B8D-9D86084A1688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500" spc="-1" strike="noStrike">
                <a:solidFill>
                  <a:srgbClr val="000000"/>
                </a:solidFill>
                <a:latin typeface="Calibri"/>
              </a:rPr>
              <a:t>Os 10 papéis do gestor</a:t>
            </a:r>
            <a:br>
              <a:rPr sz="2500"/>
            </a:br>
            <a:r>
              <a:rPr b="0" lang="pt-PT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Figura elaborada por J. Portela, </a:t>
            </a:r>
            <a:br>
              <a:rPr sz="1400"/>
            </a:br>
            <a:r>
              <a:rPr b="0" lang="pt-PT" sz="1400" spc="-1" strike="noStrike">
                <a:solidFill>
                  <a:srgbClr val="000000"/>
                </a:solidFill>
                <a:latin typeface="Calibri"/>
              </a:rPr>
              <a:t>a partir de H. Mintzberg (1975) e A. Rego (1998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Marcador de Posição de Conteúdo 3" descr=""/>
          <p:cNvPicPr/>
          <p:nvPr/>
        </p:nvPicPr>
        <p:blipFill>
          <a:blip r:embed="rId1"/>
          <a:stretch/>
        </p:blipFill>
        <p:spPr>
          <a:xfrm>
            <a:off x="438120" y="1584360"/>
            <a:ext cx="82677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6:16:48Z</dcterms:created>
  <dc:creator>Windows User</dc:creator>
  <dc:description/>
  <dc:language>en-US</dc:language>
  <cp:lastModifiedBy>Windows User</cp:lastModifiedBy>
  <dcterms:modified xsi:type="dcterms:W3CDTF">2012-03-15T14:48:49Z</dcterms:modified>
  <cp:revision>16</cp:revision>
  <dc:subject/>
  <dc:title>Os 10 papéis do gestor</dc:title>
</cp:coreProperties>
</file>